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7B3-997C-4030-A27A-4F5932B3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667-F64A-4446-9272-D3E4170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CCD-C414-43C2-AA57-EABFDC4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849-1272-49C4-B442-7F927009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863-5CF2-4D45-98F6-46ED6F3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513-45D7-4C88-8C78-16EB4A36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E13-FFEE-439D-96F5-B30D0E16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DCA-A2C5-4AB5-98F3-2D41043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E0F-0D11-4619-A4FA-10F4B29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E20-C3EB-4A79-9ACF-53C9913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22A-B484-4F9D-A0D4-97E1DD5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52E-03FC-4DC1-A56D-12DBDA5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73E8-7D99-4E9B-9199-4AD54F68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2332080"/>
          <a:ext cx="7619760" cy="1706400"/>
        </p:xfrm>
        <a:graphic>
          <a:graphicData uri="http://schemas.openxmlformats.org/drawingml/2006/table">
            <a:tbl>
              <a:tblPr/>
              <a:tblGrid>
                <a:gridCol w="1600200"/>
                <a:gridCol w="1790640"/>
                <a:gridCol w="2247840"/>
                <a:gridCol w="1981080"/>
              </a:tblGrid>
              <a:tr h="4269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(to b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e llamo _______________        Clase 701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a fecha es el 22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Como eres tú? </a:t>
            </a:r>
            <a:r>
              <a:rPr b="0" i="1" lang="es-ES_tradnl" sz="2500" spc="-1" strike="noStrike">
                <a:solidFill>
                  <a:srgbClr val="00b050"/>
                </a:solidFill>
                <a:latin typeface="Arial"/>
              </a:rPr>
              <a:t>L.O: to recall last years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- Conjuga el verbo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I- Completa con la forma correcta del verbo S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éctor ______ muy intelig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 no _______ pelirroj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is amigos y yo ________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_______ tú un(a) buen(a) alum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Rosa _________ estadouniden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upe y José ________ amig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 Escribe en Plu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hico es estadouni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urso es fa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960120"/>
            <a:ext cx="9067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ra, ¿De dónde 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de Florida o de Cu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de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h, ___________ cubanoameric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. Y tú, ¿De dónde 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Yo? Yo _______ de Da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mexicano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mpleta con la forma correcta del verb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___ aboga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law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 español y mi madre ___ norte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hermano y yo __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padres también 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 a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flaco, pero mi hermano ____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dos hermanas ____ enfermera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urses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ellas ______ muy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________ tú? ¿________ alto o bajo, flaco o go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amigo. Tú ______ peruano, yo ______ norte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5-09-22T14:53:07Z</cp:lastPrinted>
  <dcterms:modified xsi:type="dcterms:W3CDTF">2015-09-22T17:00:35Z</dcterms:modified>
  <cp:revision>14</cp:revision>
  <dc:subject/>
  <dc:title>Me llamo _________         Clase 6NH/IL La fecha es el 16 de diciembre del 2010</dc:title>
</cp:coreProperties>
</file>